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FFE2-6313-424E-A5F0-42D1BB412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DD80-CCE6-4DEF-933A-1823E891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9F1C-4713-4AF7-94E3-40328E48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E77A-82C7-4CC3-B930-77D28CF6D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BE8B-2D6E-4015-9D5B-B4C530D2D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AB55-121B-4A3A-B4E2-C26F9BE5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DE42-BBBD-464F-A50F-1132124A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5241-9A24-46F5-BFF9-D7D3372A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3141-3B1D-4C14-98E1-23BB6C56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3349-461D-4D99-A219-F451D232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92A5-D8D1-47B9-A221-BD3E3A74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604C-A325-4360-AF3E-DF800649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DAB5-4B02-4A3F-B47A-19AAACCD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7CDA-56E3-489C-A633-0DD57D3C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81EA-46E5-4691-B44D-32ED90A1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9B8E-E779-4659-A2D4-F52EB5116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0DA9-FF4C-4372-8BFB-18C00A15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4053-A845-4BD9-B611-4B64D874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68DF-F578-46C3-8C58-114D58D6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2F85-996C-4FF8-B2D7-51E27AE2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34C3-0C72-45E8-A014-ED6B8FD8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0C77-D0CD-4AC4-B562-F0356784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EA5C-3047-440F-B3D7-AAFDDEF2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C9A7-81F0-402D-AE4A-28E15618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BF68-15F5-46D5-86E1-ABE958A187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C7D6-AE70-4864-9188-FEF9811B41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848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5ffff"/>
                </a:solidFill>
                <a:latin typeface="Candara"/>
              </a:rPr>
              <a:t>Mi vacaciones en PERU</a:t>
            </a:r>
            <a:endParaRPr b="0" lang="en-US" sz="9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152760" y="5563800"/>
            <a:ext cx="7956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601992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By: Sarah Christens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ndara"/>
              </a:rPr>
              <a:t>Querido Madre y Pad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Hola madre! Hola Padre! Como estas? Es MUY buen tiempo aqu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  <a:ea typeface="Tahoma"/>
              </a:rPr>
              <a:t>í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 Puno, Peru! Haste mucho color! La hotel es muy grande y los trabajadores es muy bueno. La hotel es Titilaka Hotel. Yo fu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  <a:ea typeface="Tahoma"/>
              </a:rPr>
              <a:t>í con dos amigos, Amanda y Kristen. Hasta manaña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ndara"/>
                <a:ea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  <a:ea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  <a:ea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  <a:ea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  <a:ea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  <a:ea typeface="Tahoma"/>
              </a:rPr>
              <a:t>Besos,  Sar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715000" y="4267080"/>
            <a:ext cx="3048120" cy="2248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57200" y="4572000"/>
            <a:ext cx="3505320" cy="196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ndara"/>
              </a:rPr>
              <a:t>Querido Madre y Pad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Hola madre y padre! Esta muy muy muy buen tiempo, lo mismo es ayer! Ayer nosotros fuimos a la playa. Nececitamos una trabajo de bano, gofas de sol, un crème protectoro, y un toalla de playa. La playa es muy grande y hermoso y ocupado! La mar es luz azul. Hoy vamosla Museo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De Arte de Lima. Es muy interesant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Beso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Sar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29200" y="4343400"/>
            <a:ext cx="3349800" cy="2239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762120" y="4800600"/>
            <a:ext cx="22860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ndara"/>
              </a:rPr>
              <a:t>Querido Madre y Pad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Hola! Esta tiempo es muy mal hoy! Es muy nieva! No playa o piscina. Es a interior hoy. Hoy yo fu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  <a:ea typeface="Tahoma"/>
              </a:rPr>
              <a:t>è va a esquí acuàtico pero no bueno tiempo. Hoy yo ir de compras. Miro a la tienda de ropa. Es muy diversíon! Yo compro un chaquetta azul y bufanda muchos colores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Candar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Beso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Sar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09480" y="40384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638680" y="4038480"/>
            <a:ext cx="25527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ndara"/>
              </a:rPr>
              <a:t>Querido Madre y Pad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Hoy es muy buen tiempo aqui Peru! My vacationes es muy bueno! El tiempo es muy buen ayer. V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  <a:ea typeface="Tahoma"/>
              </a:rPr>
              <a:t>è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 la pistina! Es muy buen! Yo perder casa! Yo  voy a la Andes Mountains donde subimos y excurs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  <a:ea typeface="Tahoma"/>
              </a:rPr>
              <a:t>í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on</a:t>
            </a: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Haste pronto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Beso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Sar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3520" y="4038480"/>
            <a:ext cx="3352680" cy="2256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181480" y="3809880"/>
            <a:ext cx="369576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ndara"/>
              </a:rPr>
              <a:t>Querido Madre y Pad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Hola Madre! Hola Padre! Hoy es mi pasado d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  <a:ea typeface="Tahoma"/>
              </a:rPr>
              <a:t>í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a en Puno, Peru! El tiempo es as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  <a:ea typeface="Tahoma"/>
              </a:rPr>
              <a:t>í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 as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  <a:ea typeface="Tahoma"/>
              </a:rPr>
              <a:t>í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. Esta nublado. Yo llego a casa a noche. Mi vacationes es muy buen y yo aprendo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Besos y abrazo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Sar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181480" y="4191120"/>
            <a:ext cx="3810240" cy="2538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6320" y="434340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4:03:56Z</dcterms:created>
  <dc:creator>christensensar</dc:creator>
  <dc:description/>
  <dc:language>en-US</dc:language>
  <cp:lastModifiedBy>christensensar</cp:lastModifiedBy>
  <dcterms:modified xsi:type="dcterms:W3CDTF">2011-11-30T14:13:36Z</dcterms:modified>
  <cp:revision>10</cp:revision>
  <dc:subject/>
  <dc:title>Mi vacaciones en PERU</dc:title>
</cp:coreProperties>
</file>